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218-A3EF-482D-8B02-6FFBED19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6D3-0936-43E5-B638-CBB08B8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25A-5EC0-41B2-83A7-AFF293CF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960-0252-442F-986D-F84CE5D8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3F9-B9C6-4268-8B4A-D312B78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680-A51E-4137-A1D1-1C2AD246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63D-0D70-4F40-A100-97068292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2A4-0F21-4659-A79D-763F26A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EE2-025B-4D32-B5BC-B32AE708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F17-4FB5-417D-9030-A7B0EA99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E13-89C7-4B1F-A8ED-0869BFA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56B-1EEF-44C6-A1E7-CDE8E20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4890-EB2B-46D6-B9B6-686BA69A9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" Target="slide21.xml"/><Relationship Id="rId6" Type="http://schemas.openxmlformats.org/officeDocument/2006/relationships/slide" Target="slide25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33.xml"/><Relationship Id="rId10" Type="http://schemas.openxmlformats.org/officeDocument/2006/relationships/slide" Target="slide29.xml"/><Relationship Id="rId11" Type="http://schemas.openxmlformats.org/officeDocument/2006/relationships/slide" Target="slide7.xml"/><Relationship Id="rId12" Type="http://schemas.openxmlformats.org/officeDocument/2006/relationships/slide" Target="slide19.xml"/><Relationship Id="rId13" Type="http://schemas.openxmlformats.org/officeDocument/2006/relationships/slide" Target="slide31.xml"/><Relationship Id="rId14" Type="http://schemas.openxmlformats.org/officeDocument/2006/relationships/slide" Target="slide11.xml"/><Relationship Id="rId15" Type="http://schemas.openxmlformats.org/officeDocument/2006/relationships/slide" Target="slide17.xml"/><Relationship Id="rId16" Type="http://schemas.openxmlformats.org/officeDocument/2006/relationships/slide" Target="slide27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ience Jeopard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 an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th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Leah McDermo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ques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esigning and conducting this is the longest part of the scientific proces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experime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wo or more materials mixed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type of mixture where the solid material dissolves in the liqui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How well things mix togeth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olubility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relationship between the amount of dissolved material and the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cientific 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Defini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epa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Solution and Mixture 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5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7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9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0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1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3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4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 Bold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66ccff"/>
                          </a:solidFill>
                          <a:uFillTx/>
                          <a:latin typeface="Times New Roman Bold"/>
                          <a:hlinkClick r:id="rId16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a change results from mixing two or more material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chemical reac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Salt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hex Mix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itric acid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Gravel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n educated guess about the outcome of a scientific experiment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Cereal and mil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mixtur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only way to separate a solution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evapora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best method used to separate gravel and water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creen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se are left over when a solution has evaporated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are crystal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is is the method used to separate a mixture when screening does not work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 hypothesi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filtering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filter used for separation should be placed in one of these before using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 funnel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Doing this to a solution will allow more material to dissolv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heating the solutio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A solution in which no more material will dissolve is said to be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satu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The more material that is dissolved in a liquid, the more of this it is said to b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oncentrate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citric acid and baking soda, this is the more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You do this to discover what other scientists have tried with your topic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citric acid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Between baking soda and epsom salts, this is the less soluble of the two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baking soda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research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en you’ve finished your experiments, you must do this to draw conclusion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What is analyze resul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52280" y="6172200"/>
            <a:ext cx="609840" cy="533520"/>
          </a:xfrm>
          <a:prstGeom prst="su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</a:rPr>
              <a:t>Every science experiment starts with this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53:43Z</dcterms:created>
  <dc:creator>Sam Hoover</dc:creator>
  <dc:description/>
  <dc:language>en-US</dc:language>
  <cp:lastModifiedBy>Sam Hoover</cp:lastModifiedBy>
  <dcterms:modified xsi:type="dcterms:W3CDTF">2010-02-19T03:22:36Z</dcterms:modified>
  <cp:revision>7</cp:revision>
  <dc:subject/>
  <dc:title>Science Jeopardy</dc:title>
</cp:coreProperties>
</file>