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7C9-88B9-4AD0-A6C2-279DA0B4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EFA-B1F8-427F-BD94-2B72F048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5A2-45A8-4EBF-ADCA-BBFE343A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31E-DD31-429C-9DF9-2C8911CB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B86-877D-4458-8243-9CA9BC1A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89E-654C-46CE-B00E-39B9BFD1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A44-1A13-4726-A217-EC3C54E5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EB3-D141-42D8-A7C4-AB79AAF4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1AF-D049-4CAC-A71D-625B4DD9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4F5-1A90-42B6-8E25-505B08C3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8B8-30A9-453E-904C-F95415B9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DE4-A2F7-4938-9467-2BFEF0FB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9FBD-2E51-49EA-BCEE-4A7F0EFB5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" Target="slide21.xml"/><Relationship Id="rId6" Type="http://schemas.openxmlformats.org/officeDocument/2006/relationships/slide" Target="slide25.xml"/><Relationship Id="rId7" Type="http://schemas.openxmlformats.org/officeDocument/2006/relationships/slide" Target="slide9.xml"/><Relationship Id="rId8" Type="http://schemas.openxmlformats.org/officeDocument/2006/relationships/slide" Target="slide15.xml"/><Relationship Id="rId9" Type="http://schemas.openxmlformats.org/officeDocument/2006/relationships/slide" Target="slide33.xml"/><Relationship Id="rId10" Type="http://schemas.openxmlformats.org/officeDocument/2006/relationships/slide" Target="slide29.xml"/><Relationship Id="rId11" Type="http://schemas.openxmlformats.org/officeDocument/2006/relationships/slide" Target="slide7.xml"/><Relationship Id="rId12" Type="http://schemas.openxmlformats.org/officeDocument/2006/relationships/slide" Target="slide19.xml"/><Relationship Id="rId13" Type="http://schemas.openxmlformats.org/officeDocument/2006/relationships/slide" Target="slide31.xml"/><Relationship Id="rId14" Type="http://schemas.openxmlformats.org/officeDocument/2006/relationships/slide" Target="slide11.xml"/><Relationship Id="rId15" Type="http://schemas.openxmlformats.org/officeDocument/2006/relationships/slide" Target="slide17.xml"/><Relationship Id="rId16" Type="http://schemas.openxmlformats.org/officeDocument/2006/relationships/slide" Target="slide27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ience Jeopard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 an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th G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Leah McDermo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ques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Designing and conducting this is the longest part of the scientific proces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 experime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wo or more materials mixed togeth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type of mixture where the solid material dissolves in the liquid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How well things mix togeth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olubility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relationship between the amount of dissolved material and the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cientific 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Defini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olu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epar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olution and Mixture 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2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5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6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7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9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0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1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3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4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oncentra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en a change results from mixing two or more material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chemical reac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Salt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hex Mix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itric acid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Gravel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n educated guess about the outcome of a scientific experiment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ereal and milk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only way to separate a solution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evapora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best method used to separate gravel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creening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se are left over when a solution has evaporated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are crystal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is is the method used to separate a mixture when screening does not work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 hypothesi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filtering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filter used for separation should be placed in one of these before using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funnel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Doing this to a solution will allow more material to dissolv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heating the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solution in which no more material will dissolve is said to be thi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aturate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more material that is dissolved in a liquid, the more of this it is said to b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oncentrate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Between citric acid and baking soda, this is the more soluble of the two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You do this to discover what other scientists have tried with your topic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itric aci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Between baking soda and epsom salts, this is the less soluble of the two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baking soda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research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en you’ve finished your experiments, you must do this to draw conclusion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alyze resul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Every science experiment starts with thi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0:53:43Z</dcterms:created>
  <dc:creator>Sam Hoover</dc:creator>
  <dc:description/>
  <dc:language>en-US</dc:language>
  <cp:lastModifiedBy>Sam Hoover</cp:lastModifiedBy>
  <dcterms:modified xsi:type="dcterms:W3CDTF">2010-02-19T03:22:36Z</dcterms:modified>
  <cp:revision>7</cp:revision>
  <dc:subject/>
  <dc:title>Science Jeopardy</dc:title>
</cp:coreProperties>
</file>