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3C5-FB3A-4054-98FB-3A52EBD3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ACD-218C-4660-AEE7-9F945B28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E1D-E8D2-4531-840D-F87B0416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CF0-B961-4138-A0C2-E43FADE8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A00-01A3-4F03-89EC-5071510C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C31-B25A-4781-BE88-C2430A58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583-607E-453A-8F6E-A1DFD420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4A2-6326-4595-B479-892EDD82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08B-1887-4E98-A170-DD6EAD99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73B-56C7-4A1C-B399-996E9A5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50E-8246-4CCD-AE7C-8C2E1F9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FF5-34F0-4F27-9DC3-73467A03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1672-B9BA-4085-BB56-12C275790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" Target="slide21.xml"/><Relationship Id="rId6" Type="http://schemas.openxmlformats.org/officeDocument/2006/relationships/slide" Target="slide25.xml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slide" Target="slide33.xml"/><Relationship Id="rId10" Type="http://schemas.openxmlformats.org/officeDocument/2006/relationships/slide" Target="slide29.xml"/><Relationship Id="rId11" Type="http://schemas.openxmlformats.org/officeDocument/2006/relationships/slide" Target="slide7.xml"/><Relationship Id="rId12" Type="http://schemas.openxmlformats.org/officeDocument/2006/relationships/slide" Target="slide19.xml"/><Relationship Id="rId13" Type="http://schemas.openxmlformats.org/officeDocument/2006/relationships/slide" Target="slide31.xml"/><Relationship Id="rId14" Type="http://schemas.openxmlformats.org/officeDocument/2006/relationships/slide" Target="slide11.xml"/><Relationship Id="rId15" Type="http://schemas.openxmlformats.org/officeDocument/2006/relationships/slide" Target="slide17.xml"/><Relationship Id="rId16" Type="http://schemas.openxmlformats.org/officeDocument/2006/relationships/slide" Target="slide27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ience Jeopard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 an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th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Leah McDermo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ques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Designing and conducting this is the longest part of the scientific proces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 experime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wo or more materials mixed togeth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type of mixture where the solid material dissolves in the liquid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How well things mix togeth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olubility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relationship between the amount of dissolved material and the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cientific 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Defini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olu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epar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olution and Mixture 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5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6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7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9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0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1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3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4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oncentra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en a change results from mixing two or more material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chemical reac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Salt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hex Mix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itric acid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Gravel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n educated guess about the outcome of a scientific experiment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ereal and milk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only way to separate a solution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evapora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best method used to separate gravel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creening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se are left over when a solution has evaporated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are crystal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is is the method used to separate a mixture when screening does not work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 hypothesi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filtering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filter used for separation should be placed in one of these before using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funnel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Doing this to a solution will allow more material to dissolv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heating the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solution in which no more material will dissolve is said to be thi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aturate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more material that is dissolved in a liquid, the more of this it is said to b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oncentrate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Between citric acid and baking soda, this is the more soluble of the two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You do this to discover what other scientists have tried with your topic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itric aci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Between baking soda and epsom salts, this is the less soluble of the two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baking soda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research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en you’ve finished your experiments, you must do this to draw conclusion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alyze resul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Every science experiment starts with thi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0:53:43Z</dcterms:created>
  <dc:creator>Sam Hoover</dc:creator>
  <dc:description/>
  <dc:language>en-US</dc:language>
  <cp:lastModifiedBy>Sam Hoover</cp:lastModifiedBy>
  <dcterms:modified xsi:type="dcterms:W3CDTF">2010-02-19T03:22:36Z</dcterms:modified>
  <cp:revision>7</cp:revision>
  <dc:subject/>
  <dc:title>Science Jeopardy</dc:title>
</cp:coreProperties>
</file>